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8E8-AEE2-4F99-9DE1-167E677F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325-1E19-403C-A37E-293DE10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FC6-C49D-416B-8BE3-4EB1F7D5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082-573E-4970-B9A6-1D940C7B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C0F-DC31-4E3E-AA22-548C4C48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80E-9B29-4D3B-A58A-C2B10A13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D5C-AB38-4F43-AE22-B2E5700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B3E-1CAF-48E7-9E5D-066A6CC3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5AA-A66A-4292-8BD7-05E60D42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AB4-E903-4328-B27F-D132D14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892-AEEF-4575-83F2-9A3C09A2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2A0-6E10-40B6-977F-D3FEE8A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EA58-4393-4E4A-93E1-1474090C12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6920" y="1905120"/>
            <a:ext cx="449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190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81680" y="5638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52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28800" y="5105520"/>
            <a:ext cx="5029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2819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54380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7696080" cy="196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10280" y="55627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3927600"/>
            <a:ext cx="7010280" cy="49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76520" y="4572000"/>
            <a:ext cx="5181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9152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9625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91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3809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964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5613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7080" y="3840120"/>
            <a:ext cx="34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Screening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00800" y="27428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14280" y="22701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696080" cy="83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3657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93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62940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525780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276720"/>
            <a:ext cx="144756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7:37:44Z</dcterms:modified>
  <cp:revision>218</cp:revision>
  <dc:subject/>
  <dc:title>Slide 1</dc:title>
</cp:coreProperties>
</file>